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E95-BFD7-42DF-AC0C-00387343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A69-AAF5-4AD3-A356-2D0CCE94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B20-4280-4BE4-B08E-615415EA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3E3-357E-487A-9079-8D5D87FD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F9CF-54F5-4CB4-B05F-80831A7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0F2-FFBC-4FBA-9C40-107F131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B1DD-9893-45CB-A0C0-A807104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635F-996B-4518-A235-11518C5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A486-42BD-461F-9273-C926122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505-FA73-4DFB-AE7F-EC33DB16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DDB-B265-41D1-8C66-9DD3597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01B-6433-415D-B5B4-35148C32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1C4-ED13-4DC9-A43C-5244F35D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085-DCFB-40B8-9BBA-22A7E00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E1C1-C71B-4A9C-8811-6656B64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52B6-78B8-4CAC-A158-AA0B591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8FA-3AF5-46D9-AD25-1107755B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2BA7-86CA-4C95-805E-9CBD524E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2DC1-752F-4888-9F32-1C84350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E194-A8E6-4CE1-A73F-3D28203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68F2-AC09-4242-A2F9-2E78D87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7343-CC1C-489D-8BC4-B83D4C9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814-9EDB-4175-8B76-6C4A08EB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EDDC-F4E3-4CAB-87EB-038C3E45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8D03-D0D3-4FD1-B18A-84BB4EB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3460-D7AD-454F-875A-7AB72EE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2D99-93D8-41A0-89DC-F0CE4E5D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B4FE-2DE3-47C7-8AF0-C4340F7A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B187-4BDD-486D-9036-754DB4EE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FB94-07A0-4B8A-BF49-03FA718A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AB5F-9785-4E86-A035-1D8F583F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0F4A-FBFF-4446-BF3D-D89F6541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4FF2-37AB-4F0D-9B40-05BC5FCA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BCC-37DE-4A7D-95C7-B2DB56D8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C2A1-1142-42BD-BA1D-5FD2AA8C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0D73-8343-4B6F-8622-6972D7F1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6DF7-9ECB-4B8E-B3C0-24C7DCA8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EA29-2CD3-4165-A0C6-8ACD19F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45C3-6073-4A05-8D3C-F6599F7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08F5-F06A-40D5-A8E1-E46B316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4281-FABA-450C-B7C4-3065DD65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5981-CFC4-4DCA-9B24-662B9AC4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B05F-BC5E-4A43-AA87-0DF13791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D610-0494-45E1-84AA-E98DA2FA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A4B-05DE-4E3C-8DE1-8456751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D4AE-56CD-4593-9AC0-BFA3560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A099-482B-4F96-945D-2F9BDB5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473C-6796-47ED-8FDB-A1B5B0C8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EDD4-22EB-4FC4-91A5-B42DCCF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8C68-1426-40E9-B8C5-6A74FA7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1811-01E7-4C82-920B-46C2960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28C3-4065-4288-A856-5328473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ACC7-615F-49C8-A99B-77D7750A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FE76-7C47-416A-9C29-32AC459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DB81-6D4F-4BA4-8E38-22DFF25B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4C9-1B35-4C6A-B359-F62CC4A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13C2-B4FE-4AF5-9BD7-8468B921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B25-8E11-4000-96F6-C1F3EB9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AEA-D358-4E3A-AA21-2A3DB56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EF1-A3EB-4317-A0CB-1A24783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A38-0071-4D2E-9B59-13478EE57E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2FF-0E32-45A3-B99A-9FFB7110E9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6F45-9CBB-412C-9559-48D7D95413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EC8-17F2-4FA8-B0CC-7FCAC1BFB188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5AD-9EFC-4B6B-9108-980ECFA46A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Debat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8200" y="2386080"/>
            <a:ext cx="65102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2 – answer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) Case uniquen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have to be unique just like disadvantages have to be uniqu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there a problem now the affirmative is needed to addres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economic collapse inevitable now? If not, do we need mass transi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global warming inevitable now? If not, do we have to reduce carbon emission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important part of case debate, negative cannot win without cas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ust like disadvantages, dates ma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lpful when going for a disadvantage because it puts the credibility of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2AR impact calculus in doub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) Impact defen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the affirmative impacts as bad as they claim them to b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there other things that will prevent this conflic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y will the conflict not escalat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at has happened in the past in similar situation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sy research to do, punish teams for reading bad/unqualifie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act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3) Alternate causaliti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the affirmative the only policy needed to prevent a certai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act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useful against affs that claim to solve huge impac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 their evidence to find the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 US economy is affected by stock markets, consume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pending, investor confidence, employment rate, wages, housing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rket, innovation, import/export ratio, immigration, agriculture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tc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4) Solvency take-ou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es the affirmative plan actually solve the harm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w is the plan implemented? Do people listen to the plan? Is ther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forcement? Is there verification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w bad the affirmative’s impacts are don’t matter if voting for th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doesn’t address those impacts effective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5) Case tur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ffensive argument that the affirmative plan actually causes the impact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y are trying to sto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says that building high-speed rail is good because stimulus investment is key to prevent economic collapse by making up for low dem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NC says that stimulus spending COLLAPSES the economy by decreasing market effici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pare – important to make a comparison between the reasons spend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s good for the economy and the reasons it is bad for the econom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bigger? Which is more important? Which is faster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6) Case turns (external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ni disadvantages on the case about why the affirmative causes other ba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at makes it different than a disadvantage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Uniqueness – often not read in 1NC, less of an issue/important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ques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Smaller impac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Won’t change/develop much because of few link/impact stori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t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Often undercovered by the 2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Can be hidden in a larger case deba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Interacts with other case arguments be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bloc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ad more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eep the debate clean, labeled, and compartmentaliz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ery impact must be answer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lose sight of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ick your best turn and blow it u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ntrol terminal 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N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with uniquenes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overextend yourself on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ver your bas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e-empt the 2A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3 – defending the cas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 rot="19140000">
            <a:off x="81828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1 – set up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ffirmative prepar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ough 1AC and write out a list of every possible negativ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spo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gative case answers are very predictable and should mostly b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nswered by 1AC ca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notes lis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rite out the warrants to every single card in the 1AC and keep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on a separate piece of paper in the first pocket of you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ccord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, warrant, implication statement, cit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 – claim established in the 1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rant – why is this particular argument tru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mplication statement – comparatively, why is your argument superior to th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ternat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itation – author nam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ple: US-China war will escalate to nuclear use – concerns over national identit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sure irrational escalation where prestige becomes more important tha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conomic concerns – this outweighs any new round of small talks that don’t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undamentally change relations – extend Glaser, he’s a PolSci Prof at Georg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shing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velop a 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-3 word reference to critical arguments in the 1AC that will b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d consistent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every extension to an argument with the 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lows you to make new arguments in rebutt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o extend argu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should you read new 2AC cards on cas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are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xus ques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f you blow it off, they’ll blow it u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idence-intensive questio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guments you may not be on the side of truth o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A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n’t give a 2A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de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ference key authors, phrases, and idea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eep the debate in order but start with your best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xus ques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Know your evidence ca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AR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with uniqueness – control the inevitability of what is going to occu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ow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aint the picture of the status quo/world in which the judge doesn’t vote aff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don’t need a lot of advantages/argu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one impact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) Go deep on the explana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) Compare it to the rest of the debate/their of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3) Win it cleanl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cognize the arguments that don’t really mat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tion 4 – the five part metho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Metho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EF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XPLAI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ALUAT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NSWE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MPAC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n the affirmativ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al of the affirmative is to prov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is better than the status qu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lan is better than a competing policy opti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AC is your Lif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sing case means you have lost the deba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A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ructur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her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rms/Advanta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lv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) Inherenc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an affirmative is inherent if they prove the plan has not been done y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herency is important becaus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bating non-inherent policies doesn’t make s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becomes impossible to be negat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) Harms/Advantag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why the affirmative is desir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re is a problem in the status quo that has not been address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ailure to address this problem will cause something terri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) Solvenc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finition – what does the affirmative plan do to prevent the harms from occur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don’t matter if the plan doesn’t solve th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On the negativ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al of the negative is to prove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status quo is preferable to doing the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competing policy option is preferable to doing the pl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ifficult to win debates if you have not talked about the 1A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dvantages of specific debates and argumen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NC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very 1NC on case should be different because every 1AC is differ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cus on attacking harms/advantages and solvenc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x between offense and defen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x between analytical arguments and evidenc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2:19:39Z</dcterms:created>
  <dc:creator>Andres</dc:creator>
  <dc:description/>
  <dc:language>en-US</dc:language>
  <cp:lastModifiedBy>The Adams Family</cp:lastModifiedBy>
  <dcterms:modified xsi:type="dcterms:W3CDTF">2012-08-29T13:15:23Z</dcterms:modified>
  <cp:revision>5</cp:revision>
  <dc:subject/>
  <dc:title>Debating the case</dc:title>
</cp:coreProperties>
</file>